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9FD2-46EA-4CED-B7B2-9CD1B2E77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C426-340C-4132-9C9B-1BEC07872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6950-43DC-4013-8936-D34059A2E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461F-CE7D-4F46-B32A-1F15888EE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87A-D0DB-4DF2-B566-122C09DC8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9FCA-1533-4E2E-A580-A87326E613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E9D0-C92E-471B-B2AB-42490A298F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B4B9-2609-4425-84CF-43FD1E62FB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75A8-9409-43CA-8162-B836AF0FDF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3E08-D8B0-4C1D-B072-BC0DD214B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DF11-9843-4660-98DC-C7FBFFF540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98BE-5AAD-4C5B-A53D-DDD4B4C5CC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6973-9A74-4DC7-8DAF-FE91F6CE94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5C1C-A710-46DA-8A47-6BBB6F1DEE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24E0-DE56-440A-A00B-8C7A57DDC0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B3A5-1FC4-498F-9298-3FCE95CA1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9BFC-3F7C-4400-A452-B1D8103DF6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9F94-B528-4F56-88BC-9ED8AFEA0F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729-A452-4741-BBD3-E91258D7B7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CFD-93EC-4A1A-BB3D-2C5F4CA2FC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4E9-9EF7-4ACF-9707-AD8C3363C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AA4D-6687-4EF0-9C07-A9EFC7507B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5B0-C95A-462C-AA5C-5C0E426053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A6F-FE63-4198-8410-25E52058F5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2DB-6E23-4100-92AA-1F51E254CE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AD7-C55F-442D-9ADA-18FF634C46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CE6-150D-41E8-B8C0-E00A7F92B3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569-CAFD-4ACC-82AC-5CA59873F5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DF2-38D9-47FD-A0E5-25D6BF4303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A15-6D55-4503-96E2-8BEDA71AF3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AAB-3AB1-4086-B968-37918246DB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ED6DC-0F39-4112-AB6B-B08975DF6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8675-2152-48B0-9659-1AC1C97A41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08B9F-9EFC-4D45-9739-D161292143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E7AC5-F6A2-4BC7-9300-B553D14176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49C10-2EAE-45BC-9A7A-CD34CA679E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DD6E0-43C2-47E4-A15B-1108BF49A4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D4EFB-F279-424C-ACC2-F88835219E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16AF-D6DE-4925-8B35-57064B9C02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C6505-3FC3-44FE-BBD6-1F55A57FBC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2B492-E918-4CC2-B1D9-B9A6E808F1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014C5-7B6C-4E9E-9D63-D8B3CBA262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43D48-25E1-4BA4-A79C-F9AE5F0E9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B67C-6B35-4D76-8611-95EA91E8C5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1E5BD-6FBA-46DB-9559-A5961A578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96D0-581A-40B3-A1AC-BE9A2D713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B652-C033-4AAD-9F05-FFC977AA1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80B4-F18A-4358-A8A0-A02FB790F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212-05FB-4134-B8DE-2DD9A13A8A0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2535-0360-47A8-B4DC-4C9AA36ADBB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760-9B2B-4F07-ACE2-8D65A0571F4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5E8-2C59-4FB8-AE76-BA93C7F9026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541980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7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73480" cy="198108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747-4A0A-44B3-9DD9-ACE54B54527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does not find all types of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does not correct errors; it only helps locate them and may offer suggested corrections for some types of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find and correct many types of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1523880"/>
            <a:ext cx="251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Go To Special dialog box can aid in locating several types of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3270240" y="1628640"/>
            <a:ext cx="5492880" cy="45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590920" y="1365120"/>
            <a:ext cx="4316400" cy="503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762120" y="1258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en formulas have 3-D references, using multiple windows can aid in finding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828800" y="1714680"/>
            <a:ext cx="6248520" cy="46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1600200" y="281952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ew Window button is on the View command tab. It opens a second window with the same workbook. You can work in either window; it’s the sam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33520" cy="53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4991040" y="583740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Excel finds errors that refer to empty cel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47216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7"/>
          <p:cNvSpPr/>
          <p:nvPr/>
        </p:nvSpPr>
        <p:spPr>
          <a:xfrm>
            <a:off x="9144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splaying formulas helps to locate formula inconsist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"/>
          <p:cNvSpPr/>
          <p:nvPr/>
        </p:nvSpPr>
        <p:spPr>
          <a:xfrm>
            <a:off x="4572000" y="5105520"/>
            <a:ext cx="2133720" cy="495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9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449600" cy="15112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F58-9D05-46A0-9043-CF49B9E6A40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676520" y="2004480"/>
            <a:ext cx="58672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ERROR function allows you to set your own error value mess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in the Logical categ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has two arguments,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_if_err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2"/>
          <a:stretch/>
        </p:blipFill>
        <p:spPr>
          <a:xfrm>
            <a:off x="6373800" y="3000240"/>
            <a:ext cx="490680" cy="49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838080" y="54100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stead of showing the default #VALUE! error message when the formula has an error, this formula will show “Check Points sheet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1371600" y="1386000"/>
            <a:ext cx="671508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DD4E-1F19-406C-B54B-448BF4B4A61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2200320" y="129528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Watch Window displays formula cells and their results. Use it for a large worksheet or one that has 3-D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629400" cy="39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1228680" y="1371600"/>
            <a:ext cx="523800" cy="52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44960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3D1E-C91F-4C33-BEB2-DF9920F9E4C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95280" y="198072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ata validatio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ecks a cell entry to determine if it matches conditions that have been s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ata validation list is a way to standardize data entry and reduce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ata validation list can be keyed, or it can refer to an existing r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533520" y="14479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data validation list is the range named 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329440" cy="44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853920" y="-6480"/>
            <a:ext cx="8418600" cy="1158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8"/>
          <p:cNvSpPr/>
          <p:nvPr/>
        </p:nvSpPr>
        <p:spPr>
          <a:xfrm>
            <a:off x="609480" y="1603440"/>
            <a:ext cx="281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Error Alert appears when a cell entry violates the set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Warning style does allow an invalid entry to b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3638520" y="1635120"/>
            <a:ext cx="5200560" cy="43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698720" cy="151128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6E5A-9BC2-4BB9-9C78-2D195BBF085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omme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pop-up explanatory text attached to a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ents can be set to display a small red triangle in the upper-right corner of the cell so that they appear only when you hover at th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ents can be set to appear on screen at all tim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play choices are made in Excel Options (Advanced pane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6"/>
          <p:cNvSpPr/>
          <p:nvPr/>
        </p:nvSpPr>
        <p:spPr>
          <a:xfrm>
            <a:off x="2057400" y="1371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ment is an object that can be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2030400" y="1981080"/>
            <a:ext cx="5540400" cy="392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1973160" y="1216080"/>
            <a:ext cx="57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ments can be set to display at al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2"/>
          <a:stretch/>
        </p:blipFill>
        <p:spPr>
          <a:xfrm>
            <a:off x="1690560" y="1681200"/>
            <a:ext cx="6081840" cy="462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Oval 3"/>
          <p:cNvSpPr/>
          <p:nvPr/>
        </p:nvSpPr>
        <p:spPr>
          <a:xfrm>
            <a:off x="5392800" y="5776920"/>
            <a:ext cx="4572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553080" y="5881680"/>
            <a:ext cx="246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rbel"/>
              </a:rPr>
              <a:t>A comment can be siz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010120" cy="151128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FB3-2FD3-42EF-8A90-91D3C7A9E94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05908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C25F-2E08-44C0-80A9-1FC4AF11B55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523520" y="18288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mage adds visual appeal to a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mage is an object on the draw lay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ize, position, color, shadow, border and more can be changed, depending on the original image forma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2133720" y="205740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images that are saved in a format that Excel recognizes. Typical image formats are JPEG, PNG, TIF, GIF, PCX, an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nsert Picture from File button is on the Insert command t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2685960" y="1576440"/>
            <a:ext cx="6229440" cy="46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TextBox 3"/>
          <p:cNvSpPr/>
          <p:nvPr/>
        </p:nvSpPr>
        <p:spPr>
          <a:xfrm>
            <a:off x="533520" y="14731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image, when inserted, is at a default size. The Picture Tools Format tab is available when the image is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2209680" y="12589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image can be adjusted from the Picture Tools Format tab or from the Format Picture dialog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917720" y="1981080"/>
            <a:ext cx="5705280" cy="43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10666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ages can be copied, and multiple images can b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685800" y="2266920"/>
            <a:ext cx="826776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50" name="Title 5" descr=""/>
          <p:cNvPicPr/>
          <p:nvPr/>
        </p:nvPicPr>
        <p:blipFill>
          <a:blip r:embed="rId2"/>
          <a:stretch/>
        </p:blipFill>
        <p:spPr>
          <a:xfrm>
            <a:off x="3024360" y="2676600"/>
            <a:ext cx="6448320" cy="208440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356-C9F1-4E08-B0AC-30FCCF79EAE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6560" y="-139680"/>
            <a:ext cx="7991280" cy="13222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685800" y="14382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Accessibility Checker identifies content that might be difficult to see for persons who are visually impaired. This command is on the Info pane in Backstage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144880" y="2590920"/>
            <a:ext cx="63417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457200" y="12193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Accessibility Checker suggests ways to correct visibility concerns. These include changing colors or providing alternat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905120" y="2104920"/>
            <a:ext cx="5727600" cy="42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649440" y="1530360"/>
            <a:ext cx="331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Document Inspector finds metadata and personal information that can be removed before saving a workboo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is a privacy concern for businesses and individu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rcRect l="22541" t="12487" r="22858" b="20850"/>
          <a:stretch/>
        </p:blipFill>
        <p:spPr>
          <a:xfrm>
            <a:off x="3886200" y="1523880"/>
            <a:ext cx="49928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599840" y="175212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igital signatur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property that electronically authenticates an Excel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igital signature is not visible in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igital signature does not provide a high level of securit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udi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the practice of examining cells and formulas for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performs some background error checking while you wor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iny green triangle in the upper-left corner highlights potential problems in a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errors  display an error value message in th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TextBox 2"/>
          <p:cNvSpPr/>
          <p:nvPr/>
        </p:nvSpPr>
        <p:spPr>
          <a:xfrm>
            <a:off x="533520" y="159876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digital signature is a Protect Workbook command. It requires that a digital ID be created at your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2362320" y="1465200"/>
            <a:ext cx="6553080" cy="46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Text Box 6"/>
          <p:cNvSpPr/>
          <p:nvPr/>
        </p:nvSpPr>
        <p:spPr>
          <a:xfrm>
            <a:off x="447840" y="1468440"/>
            <a:ext cx="19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workbook with a digital signature is [Read Only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371240" y="213372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diting is the practice of examining cells and formulas for accuracy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provides several tools to help you audit your worksheet for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performs background error checking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ssible errors are noted with a tiny green triangle. Some error types display an error value mess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a cell displays an error value message, you can evaluate each element in the formula step by step to pinpoint the cause of the err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error messages print with the worksheet unless the setting is changed in the Page Setup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705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ormula Auditing group on the Formulas command tab includes commands for tracing and evaluating formula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ecedent contributes or provides data to a formula’s res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ependent is a cell that relies on another cell for its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the Go To Special dialog box to select cells with errors, blanks, and other types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ving multiple windows of the same workbook is a way to monitor 3-D references and formulas as well as large work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play the formulas to aid in locating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Watch Window displays formula cells and related information in a separate window that floats over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ERROR function from the Logical category enables you to create your own error messag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 validation specifies what data are permissible in a range of cells. It is a method of ensuring accuracy for some types of ent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ata validation list is a set of data from which a choice is mad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possible to allow invalid entries to be made with a warning or to prohibit the ent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mment is a text box attached to a cell. Comments can be used for annotations, notes, or explan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types of images can be placed on a worksheet. They are objects and can be sized, positioned, and format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icture Tools Format tab provides the commands for modifying a pictu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ccessibility Checker scans a workbook for cells and objects that might be problematic for a person with a visual impair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ocument Inspector finds metadata and personal information in a workbook for possible remov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igital signature authenticates your work at your own compute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871640" y="1447920"/>
            <a:ext cx="5400720" cy="47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522360" y="1371600"/>
            <a:ext cx="26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over at the Error Checking Options button to display a ScreenTip about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5646600" cy="495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5" descr=""/>
          <p:cNvPicPr/>
          <p:nvPr/>
        </p:nvPicPr>
        <p:blipFill>
          <a:blip r:embed="rId1"/>
          <a:stretch/>
        </p:blipFill>
        <p:spPr>
          <a:xfrm>
            <a:off x="817560" y="-6480"/>
            <a:ext cx="8570880" cy="11588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914400" y="1266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valuate Formula command steps through each part of a formula so that you can determine where the error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723924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1981080" y="1981080"/>
            <a:ext cx="6705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a cell that relies on another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receden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a cell that contributes to a formula’s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ither cell type can cause a formula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914400" y="16002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rror in cell C14 traces to cell C7 and to cell C3 on the Points worksheet. These are preceden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4114800" y="1525680"/>
            <a:ext cx="44085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10:05Z</dcterms:modified>
  <cp:revision>78</cp:revision>
  <dc:subject/>
  <dc:title>Microsoft office</dc:title>
</cp:coreProperties>
</file>